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Cheering.wav" ContentType="audio/x-wav"/>
  <Override PartName="/ppt/media/image25.jpeg" ContentType="image/jpeg"/>
  <Override PartName="/ppt/media/image24.jpeg" ContentType="image/jpeg"/>
  <Override PartName="/ppt/media/image10.png" ContentType="image/png"/>
  <Override PartName="/ppt/media/image23.jpeg" ContentType="image/jpeg"/>
  <Override PartName="/ppt/media/image21.wmf" ContentType="image/x-wmf"/>
  <Override PartName="/ppt/media/image18.jpeg" ContentType="image/jpeg"/>
  <Override PartName="/ppt/media/taps%5B1%5D.wav" ContentType="audio/x-wav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4B6E-CB88-4D56-8D09-B5067B4DB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5C59-DE8C-4B8F-BD3F-D84E9D2B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A80E-8845-4DF7-8531-A593F459A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B334-4304-4F0E-A5E5-1AE3B3656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E93A-21E6-4D6D-8276-2A2BEFCF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B003-D47B-4CAE-89D9-A923D00E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45F3-9516-43A8-A5FA-362C7F8E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6A36-AC81-48B9-A922-9FD69BE8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6D7A-77A9-4CF1-A82E-23FAC22A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23D4-7E70-44D1-902E-8EAE2DEC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2D55-D5BB-4E48-86F5-707B356A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77DA-C4C5-44A6-A029-C8A4555B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2DF7-DA33-4D07-BE9A-AB7BA6913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audio" Target="../media/Cheering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audio" Target="../media/taps%5B1%5D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8305920" cy="16002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Labor Issues vs. Patriot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1828800"/>
            <a:ext cx="72392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5880" indent="-51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ost-war labor unres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195560" indent="-565200">
              <a:lnSpc>
                <a:spcPct val="100000"/>
              </a:lnSpc>
              <a:spcBef>
                <a:spcPts val="751"/>
              </a:spcBef>
              <a:buClr>
                <a:srgbClr val="cc3300"/>
              </a:buClr>
              <a:buSzPct val="115000"/>
              <a:buFont typeface="Webdings" charset="2"/>
              <a:buChar char="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Coal Miners Strike of 1919.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95560" indent="-565200">
              <a:lnSpc>
                <a:spcPct val="100000"/>
              </a:lnSpc>
              <a:spcBef>
                <a:spcPts val="751"/>
              </a:spcBef>
              <a:buClr>
                <a:srgbClr val="cc3300"/>
              </a:buClr>
              <a:buSzPct val="115000"/>
              <a:buFont typeface="Webdings" charset="2"/>
              <a:buChar char="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teel Strike of 1919.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95560" indent="-565200">
              <a:lnSpc>
                <a:spcPct val="100000"/>
              </a:lnSpc>
              <a:spcBef>
                <a:spcPts val="751"/>
              </a:spcBef>
              <a:buClr>
                <a:srgbClr val="cc3300"/>
              </a:buClr>
              <a:buSzPct val="115000"/>
              <a:buFont typeface="Webdings" charset="2"/>
              <a:buChar char="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Boston Police Strike of 1919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3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3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75960"/>
            <a:ext cx="7010280" cy="1476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Eurostile"/>
              </a:rPr>
              <a:t>The Red Cross - Greatest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Eurostile"/>
              </a:rPr>
              <a:t>Mother in the Wor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708360" y="1600200"/>
            <a:ext cx="3301920" cy="495288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71600" y="212760"/>
            <a:ext cx="762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Americans in the Tren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rcRect l="3224" t="2933" r="4299" b="4618"/>
          <a:stretch/>
        </p:blipFill>
        <p:spPr>
          <a:xfrm>
            <a:off x="1676520" y="1066680"/>
            <a:ext cx="7086600" cy="519120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merican Invol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low to build up, slow to eng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y August 1918, ten thousand American soldiers arriv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rst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teau-Thierry / Second Battle of the Marne– stop German advance (last effo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use-Argonne Offensive 9/18 – 11/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ssive allied assault on German lines (r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2 million Americans engaged (10% casual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71600" y="152280"/>
            <a:ext cx="76201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German Cartoon:</a:t>
            </a:r>
            <a:br>
              <a:rPr sz="3600"/>
            </a:b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“Fit for active service!”, 19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776680" y="1523880"/>
            <a:ext cx="4690800" cy="502920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71600" y="76320"/>
            <a:ext cx="76201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1918 Flu Pandemic: </a:t>
            </a:r>
            <a:br>
              <a:rPr sz="3600"/>
            </a:b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Depletes All Arm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116000" y="3276720"/>
            <a:ext cx="2970360" cy="217944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876920" y="1523880"/>
            <a:ext cx="2209680" cy="221004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7238880" y="1523880"/>
            <a:ext cx="1730520" cy="2438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5410080" y="4138560"/>
            <a:ext cx="3353040" cy="241452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1447920" y="1409760"/>
            <a:ext cx="3174840" cy="194292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1447920" y="5638680"/>
            <a:ext cx="3886200" cy="947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dace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1b53"/>
                </a:solidFill>
                <a:latin typeface="Comic Sans MS"/>
              </a:rPr>
              <a:t>50,000,000 – 100,000,000 d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ilson Fights for Pe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rly 1918 German military takes over the German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rman Kaiser began peace negot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rman army/navy mut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rmany surrenders 11/11/1918 @ 11:00 a.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st allied offensive 9:00 a.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st deaths @ 10:59 a.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lson travels to Paris for negot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Republicans inv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71600" y="304920"/>
            <a:ext cx="762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11 a.m., November 11, 19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 rot="21344400">
            <a:off x="1371600" y="1218960"/>
            <a:ext cx="4132440" cy="4190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778360" y="2133720"/>
            <a:ext cx="3060720" cy="426708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eer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reaty of Versailles / League of Nations Pages 736-74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9512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een Points vs. Trea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y diff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omestic Disp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ublic opi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nate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lection of 19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eaty of Versail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itain and France wanted harsh conditions to insure Germany would not be a threat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di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rmany accepts blame for th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rmany has to pay 132 billion in repa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sace-Lorraine returned to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rman military drastically re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onies become protectorates of Al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ne new nations created – Czechoslovakia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ngary, Romania, Serbia, Poland, Lithuania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onia, Latvia, and Fi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es of the Trea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umiliates 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gnores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parate peace with Germany 19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ssian Revol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ssigns colonies – not self-determination or free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04760" y="380880"/>
            <a:ext cx="7010280" cy="1478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Eurostile"/>
              </a:rPr>
              <a:t>Opportunities for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Eurostile"/>
              </a:rPr>
              <a:t>African-Americans in WW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2362320"/>
            <a:ext cx="6705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97040" indent="-736560">
              <a:lnSpc>
                <a:spcPct val="100000"/>
              </a:lnSpc>
              <a:spcBef>
                <a:spcPts val="850"/>
              </a:spcBef>
              <a:buSzPct val="15429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Great Migration.”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   1916 – 1919 </a:t>
            </a:r>
            <a:r>
              <a:rPr b="1" lang="en-US" sz="3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 70,000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797040" indent="-736560">
              <a:lnSpc>
                <a:spcPct val="100000"/>
              </a:lnSpc>
              <a:spcBef>
                <a:spcPts val="850"/>
              </a:spcBef>
              <a:buSzPct val="15429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War industries work.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797040" indent="-736560">
              <a:lnSpc>
                <a:spcPct val="100000"/>
              </a:lnSpc>
              <a:spcBef>
                <a:spcPts val="850"/>
              </a:spcBef>
              <a:buSzPct val="15429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Enlistment in segregated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unit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66680" y="152280"/>
            <a:ext cx="7925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80000"/>
                </a:solidFill>
                <a:latin typeface="Comic Sans MS"/>
              </a:rPr>
              <a:t>The Versailles Trea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057400" y="990720"/>
            <a:ext cx="6019920" cy="554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estic / Polit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olation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trayal / mistreatment of immigrant home lands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nry Cabot Lo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d opposition of “moral” p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ccessfully delayed treaty hea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lson – in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o kills the trea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equences of the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man – 10 million dead, 25 million inj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conomic - $330 billion, destruction of European econom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ysical destruction of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litical – End of German, Austrian, Russian, and Ottoman Emp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eation of weak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blishment of commu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sychological – deepens and expands nationalism, expands pessimistic view of huma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 Consequences of WW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0,000 dead – 300,000 inj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es America’s emergence as world’s greatest industrial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ocates American population to urban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s anti-immigrant and anti-radical senti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71600" y="212760"/>
            <a:ext cx="762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10,000,000</a:t>
            </a: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2985" t="5173" r="4478" b="4257"/>
          <a:stretch/>
        </p:blipFill>
        <p:spPr>
          <a:xfrm>
            <a:off x="1600200" y="990720"/>
            <a:ext cx="7232760" cy="556236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371600" y="304920"/>
            <a:ext cx="76201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World War I Casual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371600" y="1281240"/>
            <a:ext cx="7391520" cy="49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ion of 1920 Candi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133720" y="1371600"/>
            <a:ext cx="1755720" cy="2340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209680" y="4114800"/>
            <a:ext cx="1673280" cy="214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33000" y="1870200"/>
            <a:ext cx="137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ubli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nd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na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arren 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r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over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lv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ol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5257800" y="1447920"/>
            <a:ext cx="1608120" cy="2286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5181480" y="4114800"/>
            <a:ext cx="1828800" cy="2176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326360" y="1870200"/>
            <a:ext cx="1744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mocr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nd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over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ames M. C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ssistant N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cre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ranklin 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oseve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ion of 19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52280" y="1219320"/>
            <a:ext cx="8656920" cy="4655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62120" y="5985000"/>
            <a:ext cx="803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bs gets 20k more votes than 1912 but half of the % v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912 – 6% of Popular Vote    1920 – 3% of Popular V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ased Racial Te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frican-Americans used as strike br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eat Migration expands urba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vercrow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conomic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gre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ace riots / lynching 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W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triotism and opportunity lead to female factory workers and far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lson endorses (finally) suffrage as a “vital necessity” for the war ef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conomic, social, and political streng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7621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Eurostile"/>
              </a:rPr>
              <a:t>YWCA – The Blue Trian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87600" y="1219320"/>
            <a:ext cx="4003920" cy="529272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Eurostile"/>
              </a:rPr>
              <a:t>Munitions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559320" y="1176480"/>
            <a:ext cx="3527280" cy="530064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76320"/>
            <a:ext cx="7010280" cy="1371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99"/>
                </a:solidFill>
                <a:latin typeface="Eurostile"/>
              </a:rPr>
              <a:t>The Girls They Left Behind Do Their Bit!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14600" y="1523880"/>
            <a:ext cx="5867280" cy="492948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76320"/>
            <a:ext cx="7315200" cy="8078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Eurostile"/>
              </a:rPr>
              <a:t>Women Used In Recrui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635280" y="990720"/>
            <a:ext cx="3299040" cy="502920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6629400" cy="12952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Eurostile"/>
              </a:rPr>
              <a:t>Even Grandma Buys Liberty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Eurostile"/>
              </a:rPr>
              <a:t>Bo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267080" y="1143000"/>
            <a:ext cx="3632400" cy="532764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21:51:14Z</dcterms:created>
  <dc:creator> </dc:creator>
  <dc:description/>
  <dc:language>en-US</dc:language>
  <cp:lastModifiedBy>School District U46</cp:lastModifiedBy>
  <dcterms:modified xsi:type="dcterms:W3CDTF">2008-03-05T15:03:20Z</dcterms:modified>
  <cp:revision>39</cp:revision>
  <dc:subject/>
  <dc:title>Slide 1</dc:title>
</cp:coreProperties>
</file>